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0F2-9D2F-4073-A0D5-F30052F1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470-D559-4606-97CF-40827863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7DD-0084-4693-9652-86D5FA91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392-1CF5-465F-9A99-393839CE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207-4F11-40DE-88A0-6F910984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03B-C7B4-4BC8-A397-0E8F32DC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A0B-0516-457E-8A5E-3D308036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1F1-234E-4575-B47F-45137C11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EC8-DEC3-4AFA-98D9-3B794CA7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07B-0651-4C14-8C1B-0AF6D501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2A0-7D68-40AC-9176-599D453A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254-5F63-4FF4-A078-06C42040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A5F6-71E9-45E2-A729-FE5726FBC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ui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371600"/>
            <a:ext cx="6553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s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y exi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know what they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y do NOT exi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know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n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447920" y="19051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19051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371600"/>
            <a:ext cx="65530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 to know – AP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stitu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tional Fun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Factor! (eliminate 0/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Divide by highest degree x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iecewise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eft side vs. right 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d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ration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multiply by ‘conjugat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tional Radicals to infin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atch |x| and 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g ident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219320"/>
            <a:ext cx="655308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– things to keep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s taught us everything we feel is “righ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the (*&amp;%$&amp; denominator, you could say the same about ration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ne-sided vs. two-sided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at infinity (end behav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me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don’t be af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not manipulate infinity like it’s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respectful of the subtl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00200" y="1828800"/>
            <a:ext cx="30574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47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lynomials R*O*C*K*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09680" y="4724280"/>
          <a:ext cx="9753840" cy="55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4724280"/>
                    <a:ext cx="97538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295280"/>
            <a:ext cx="655308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– how to calculate them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stitu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very continuous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hatever that 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tion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erator, denominator not 0  =&gt;  see substitu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erator not 0; denominator 0 =&gt;  unb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erator AND denominator 0 =&gt; try to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981080" y="2514600"/>
                <a:ext cx="17208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295280"/>
            <a:ext cx="655308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– how to calculate them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iecewis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limit from right = limit from le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d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problem is of the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y –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– Multiply top and bottom by conj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fraction first 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295280"/>
            <a:ext cx="65530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– how to calculate them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tional Functions to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technique is to divide the top and 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‘variable to the highest degre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: all but 1 or 2 pieces go to ze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tional Radicals to Infinity (bob-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conjugates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you incorporate dividing by same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you leave the sign outside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bring things under the radical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54100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 to negative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1981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nic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295280"/>
            <a:ext cx="6553080" cy="45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is critically 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5% of AP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tinuous at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=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defined 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=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19320" y="3048120"/>
                <a:ext cx="1117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295280" y="4800600"/>
                <a:ext cx="1117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7696080" y="41148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 all 3 conditions (wh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295280"/>
            <a:ext cx="65530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orous definition of 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continuity) was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ly 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hat I rememb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icult problem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nctions defin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iece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need to fi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makes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295280"/>
            <a:ext cx="6553080" cy="48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onometric st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gotta k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is in ra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follow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gotta kn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cos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96080" y="4114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384200" y="2695680"/>
                <a:ext cx="170208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425680" y="4495680"/>
                <a:ext cx="21844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219320"/>
            <a:ext cx="65530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 ‘jump discontinuity’ (pit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sided limit and right sided limit un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 vertical asymptote (w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bound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n oscillation (boing bo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doesn’t get close to anything (and stay t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end behavior tends to               (zoom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bound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 that removable discontinuities have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581280" y="457200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 ‘jump discontinuit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3124440" cy="2658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191120" y="2895480"/>
            <a:ext cx="2490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 vertical asymptote (w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133720" y="2819520"/>
            <a:ext cx="356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n oscillation (boing bo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301176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038480" y="2743200"/>
            <a:ext cx="32767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end behavior tends to               (zoom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57600" y="2209680"/>
                <a:ext cx="685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2990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 that removable discontinuities have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36198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371600"/>
            <a:ext cx="655308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ha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covery p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oth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ific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it’s just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ng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sic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95280" y="2590920"/>
          <a:ext cx="9906120" cy="3551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590920"/>
                    <a:ext cx="9906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10:43:39Z</dcterms:created>
  <dc:creator>Bob Wilder</dc:creator>
  <dc:description/>
  <dc:language>en-US</dc:language>
  <cp:lastModifiedBy>Bob Wilder</cp:lastModifiedBy>
  <dcterms:modified xsi:type="dcterms:W3CDTF">2009-08-30T04:01:42Z</dcterms:modified>
  <cp:revision>31</cp:revision>
  <dc:subject/>
  <dc:title>Slide 1</dc:title>
</cp:coreProperties>
</file>